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79FC-9064-48A3-B1E3-0200410E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EA1-579C-41FC-BDD3-5DFC0567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1F9-2D1B-4391-91E1-8B97DF7D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BB0-FE94-46CF-B9D8-B7811868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4BD-C58E-4B50-84D7-0C4E74DB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89E-40D3-415C-9561-B988C155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AD4-2461-437B-8388-D7DBC4A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E99-1E2A-45B8-94AF-56A4F566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7F5-203D-416D-A5F7-3BA89AD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88A-814F-4E2E-B04C-054B7B5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CCB-4088-4062-A62A-326F2723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74D-074F-4A10-859A-D917076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98F-8954-417A-9A62-0C1D96C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899-9699-4A1B-8894-4910B4F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1A2E-803C-4EAC-8544-68DEACD1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o 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88620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niñ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819520" y="320040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y yo estoy bien 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Dan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buenos días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551524_497579363608127_481304548_n.jpg"/>
          <p:cNvPicPr/>
          <p:nvPr/>
        </p:nvPicPr>
        <p:blipFill>
          <a:blip r:embed="rId1"/>
          <a:stretch/>
        </p:blipFill>
        <p:spPr>
          <a:xfrm>
            <a:off x="1295280" y="525780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523313_239856676136473_1638055208_n.jpg"/>
          <p:cNvPicPr/>
          <p:nvPr/>
        </p:nvPicPr>
        <p:blipFill>
          <a:blip r:embed="rId2"/>
          <a:stretch/>
        </p:blipFill>
        <p:spPr>
          <a:xfrm>
            <a:off x="1522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530082_369537476424823_1322781097_n.jpg"/>
          <p:cNvPicPr/>
          <p:nvPr/>
        </p:nvPicPr>
        <p:blipFill>
          <a:blip r:embed="rId3"/>
          <a:stretch/>
        </p:blipFill>
        <p:spPr>
          <a:xfrm>
            <a:off x="76212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5"/>
          <p:cNvSpPr/>
          <p:nvPr/>
        </p:nvSpPr>
        <p:spPr>
          <a:xfrm>
            <a:off x="152280" y="571500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le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6"/>
          <p:cNvSpPr/>
          <p:nvPr/>
        </p:nvSpPr>
        <p:spPr>
          <a:xfrm>
            <a:off x="228600" y="6400800"/>
            <a:ext cx="10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7" descr="431532_276146949128953_1337986109_n.jpg"/>
          <p:cNvPicPr/>
          <p:nvPr/>
        </p:nvPicPr>
        <p:blipFill>
          <a:blip r:embed="rId4"/>
          <a:stretch/>
        </p:blipFill>
        <p:spPr>
          <a:xfrm>
            <a:off x="1117440" y="16002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188486_305310389581798_1915360673_n.jpg"/>
          <p:cNvPicPr/>
          <p:nvPr/>
        </p:nvPicPr>
        <p:blipFill>
          <a:blip r:embed="rId5"/>
          <a:stretch/>
        </p:blipFill>
        <p:spPr>
          <a:xfrm>
            <a:off x="3182760" y="3429000"/>
            <a:ext cx="1603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0:05Z</dcterms:created>
  <dc:creator>FriscoISD</dc:creator>
  <dc:description/>
  <dc:language>en-US</dc:language>
  <cp:lastModifiedBy>NYCDOE</cp:lastModifiedBy>
  <dcterms:modified xsi:type="dcterms:W3CDTF">2012-12-05T14:05:13Z</dcterms:modified>
  <cp:revision>103</cp:revision>
  <dc:subject/>
  <dc:title>Profile</dc:title>
</cp:coreProperties>
</file>